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02B-D707-43C5-BCF0-4583DA19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24E-5CF7-4DC4-BA7E-748A1A5F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6B9-5EB1-47B5-8382-180C0AD5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5A2-AEDF-4316-A813-A7BE5FB2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4AA-5C0A-4FA3-9BA8-BE7E7414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0E8-A6EB-488D-9D67-DBB7BA8F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5F1-537F-4471-8C32-2C547B69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12E-BC63-4696-9C5E-5933CC7F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92E-9B6D-49F1-9159-4F8D9E44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DD9-80C0-4DB8-ACE9-28F62861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513-32A9-4D8D-A129-86E8D9BF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017-AB64-424A-A608-ADBF3218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89AC-DB9B-4DB4-906B-A3147505F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ia.gov/library/publications/the%20world-factbook/printgn.html" TargetMode="External"/><Relationship Id="rId2" Type="http://schemas.openxmlformats.org/officeDocument/2006/relationships/hyperlink" Target="http://www.cia.gov/library/publications/the%20world-factbook/printgn.html" TargetMode="External"/><Relationship Id="rId3" Type="http://schemas.openxmlformats.org/officeDocument/2006/relationships/hyperlink" Target="http://www.cia.gov/library/publications/the%20world-factbook/printgn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ay In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ichael Holmes And        Keith We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 Randolp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fo About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’s population is about 82,369,552 people. The main language spoken in Germany is German (Deutsch). Berlin is the capital and also has the world famous Berlin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rmany has many rivers including the Danube that starts in black forest, Germany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mate is cool, cloudy, wet winters and summers, and relatively humid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2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 culture reflects various traces of medieval art and architecture like cathedrals, monasteries, and cast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famous food is the Bratwurst. It is a sausage made from pork with sp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ports that are popular in Germany are Volleyball, Basketball Field hockey, Track and field events, and Ski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popular sport is soc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rist At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tburg Castle is one of the most famous castles in Germany, and was founded in 10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ack Forest is also a major tourist attraction. It is famous for being the origin of cuckoo cloc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lin is also a major tourist attraction. There are many sites to remind people of the history and culture in the biggest city in Germany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or the Federal Republic of Germany, is a democratic parliament nation, made up of 16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was a founding member of the E.U which started in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cy is Eu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Germany is the third largest country In the European Union and as well as economy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has a chancellor instead of a president. A chancellor is like a U.S.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Sl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a.go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library/publications/the world-factbook/printgn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ravelsthroughgermany.com/wepsites/germanfood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apsofworld.com/germany-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uide-to-castles-of-european.com/wartbutg-cast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p.greenwichmeanthime.com/timezone/europe/europeanunion/germany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rlin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mauer.se/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rlinWall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/bygg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oo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rmany enchantment of the wor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Jean F. Blashfield, pg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untries Of The World, Germa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Richard Lord, pg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rmany AB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: Sarah Heiman, pg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43:17Z</dcterms:created>
  <dc:creator>michaelholmes</dc:creator>
  <dc:description/>
  <dc:language>en-US</dc:language>
  <cp:lastModifiedBy>michaelholmes</cp:lastModifiedBy>
  <dcterms:modified xsi:type="dcterms:W3CDTF">2009-02-11T18:54:03Z</dcterms:modified>
  <cp:revision>17</cp:revision>
  <dc:subject/>
  <dc:title>A Day In Germany</dc:title>
</cp:coreProperties>
</file>